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97A-764C-46E6-AC3F-6F7DE8B8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1B2-8BD3-45C8-98B6-8C822A49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66B-C3A5-4E28-AA18-CC17EA6D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15A-7518-43BC-930B-97400470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5214-2496-4800-8167-2FF5B31C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5FE0-BE61-45C0-A96E-8967565F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0B47-A345-445E-8AA3-D8004E49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1286-EC5E-4CDE-A102-639EA848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1336-35A4-4A66-9270-4A644641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756A-45B7-45AA-901D-91326124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7A85-8A8D-481D-A2B0-EE6C665F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EB5-1AC1-403E-8E0F-631BB26C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28A7-9BAD-40AE-9D12-7DA0611C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8A6F-D701-417B-8525-FF2C5E84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201F-CAED-46AC-B5CF-65B2F8C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4F57-6BF4-407F-8465-CD95BD08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9F1C-4C07-4840-B891-5EB3ECCB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D4F-7717-48D9-8D80-FB771191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FC3-79A8-4293-86E1-1E296D44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FEA-8CB4-43AB-A0A9-BDC645D3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E90-8795-4C48-94B0-6DB14D3E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9A2-61D7-4BEC-8AE0-3B7BB3E7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E0C-0055-4F91-AA18-0CCABF3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B7F-B9DE-4490-A057-9BAA8DC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D11D-D48C-45C3-B702-26F743FFFFE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96DE-5D9E-44E1-95CF-A4AF181BBB1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Embedded%20Sound%201" TargetMode="External"/><Relationship Id="rId3" Type="http://schemas.microsoft.com/office/2007/relationships/media" Target="file:///tmp/home/.config/libreoffice/4/user/gallery/Embedded%20Sound%201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By:Anna Gibbs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28800" y="2514600"/>
            <a:ext cx="5867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Chalkboard Bold"/>
              </a:rPr>
              <a:t>Poisoning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Chalkboard Bold"/>
              <a:ea typeface="Chalkboard Bold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1597" dir="13146223" blurRad="0" rotWithShape="0">
              <a:srgbClr val="000000">
                <a:alpha val="1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all the 24-hour poison control center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4760" y="2742840"/>
            <a:ext cx="7010280" cy="342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Or the Doctor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e center’s phone number is usually listed on the inside front cover of the telephone book. 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Listen for and follow all instructions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" y="19051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What to do..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2285640"/>
            <a:ext cx="6400800" cy="342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all Emergency Medical services if you are told to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Remove any extra bits of the poison from around the person’s mouth with a clean, damp cloth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2057400" cy="1322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What to do…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2437920"/>
            <a:ext cx="7010280" cy="342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Lastly save the container of the poisonous substance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how it to the medical team and give them any details you are aware of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2590920" y="-152280"/>
            <a:ext cx="1028880" cy="1625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-228600" y="3048120"/>
            <a:ext cx="266688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-1717560" y="6054840"/>
            <a:ext cx="1717560" cy="803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737560" y="5257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1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ese are simple steps in saving a life from poison. (: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ヒラギノ角ゴ Pro W3"/>
              </a:rPr>
              <a:t>_x0016_Thanks for watching!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06Z</dcterms:created>
  <dc:creator>Kraybill Campus LMS</dc:creator>
  <dc:description/>
  <dc:language>en-US</dc:language>
  <cp:lastModifiedBy>Kraybill Campus LMS</cp:lastModifiedBy>
  <dcterms:modified xsi:type="dcterms:W3CDTF">2011-05-24T13:04:38Z</dcterms:modified>
  <cp:revision>7</cp:revision>
  <dc:subject/>
  <dc:title>PowerPoint Presentation</dc:title>
</cp:coreProperties>
</file>